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497-19BC-441C-BA18-84B8734A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F47-7753-43D5-BF82-567ADF91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368-94E7-432D-A60E-BD12B190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379-D009-4D1A-B9E0-B1342C99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E461-968B-4746-9BCC-BC753F67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470F-F978-4A4B-8652-66FB8077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0E44-A0FD-4045-AFD8-A169B12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7FDA-2028-4BB0-B599-AEED3F9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5B1-2E7E-4440-BF84-35041F3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890B-2AB4-44F6-8739-AA94ACA8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60D-AFD1-48B4-B662-F34103B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2291-1EAC-44E2-8173-4107EAC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4E34-A61A-47BD-A62F-5E00CA6A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8A98-CA9D-4BA1-BB66-760EC3D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98D4-AF16-4F00-A495-817E8B8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E64C-3D21-4CD1-A1C6-0DE6E5C8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4419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5335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FA08-14E1-428F-9FE9-A5AE7EB1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3C8-946F-4EAC-88C7-9EE96834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359E-B2C6-44A5-B7D1-876C26B6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B2A-3760-4E13-8150-257F1C3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27F-E94B-4AD2-B0FF-211EC9CA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F21-07EE-43C2-8F53-8B9A10E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5335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267-E410-4E3C-B244-F4E2CF6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9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5335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7A2-A2BB-4D19-954B-07B88BC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F9E8-E32D-40BE-ABCF-07F8D2D28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0B6-AE41-4487-AF46-B9A9CA546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tirement Plan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by Ca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Chart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ck Jam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hael Leka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n Picciott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son Stib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5760" y="1442880"/>
            <a:ext cx="838188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576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442880"/>
            <a:ext cx="838188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Outpu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Demonst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rehensive retirement planning model is extremely useful to see the implications of various lifestyl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 Ball “grabbers” are helpful in analyzing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tems for future consider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ment goal is comprised of liquid ass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es during retirement are not calc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77240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Demonstr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need for a comprehensive retirement planning tool that incorporates all major expenses determined by lifestyl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you complete your MBA, you are probably wonde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I be able to retire comfortably when I want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impact of having another chil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I afford a second h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nagerial Problem Defini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 is to create a personalized model that computes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nest egg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ihood of reaching a specified retirement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retirement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in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to reti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savings /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 / mortgage expe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h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44760"/>
            <a:ext cx="4724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ement go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1K and IRA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ing expen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495680"/>
            <a:ext cx="86104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inputs are used to calculate the cash flows for each monthly period based on Total Revenues - Total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stal Ball simulates the investment returns for each monthly period based on the individual’s risk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growth is applied annually up to a maximum am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savings is computed.  If individual is not saving money, cost of debt is appl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 of risk is gradually adjusted as time to retirement decreases.  A pre-determined mix of stocks and bonds is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ariance was calculated after analyzing historical returns since 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odel Highl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al Formatting was used to prompt the user for additional information, if appli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4572000"/>
            <a:ext cx="83822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8686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70106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odel Highlights (cont’d)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600200"/>
            <a:ext cx="7772400" cy="7621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6002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MIN((CurrComp*(1+CompGrowth)^(ROUNDUP(A3/12,0)-1)/(12)), Income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320" y="3219480"/>
            <a:ext cx="8915400" cy="1352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1981080"/>
            <a:ext cx="1828800" cy="21337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20:53:58Z</dcterms:created>
  <dc:creator>Stern School</dc:creator>
  <dc:description/>
  <dc:language>en-US</dc:language>
  <cp:lastModifiedBy>Stern School</cp:lastModifiedBy>
  <dcterms:modified xsi:type="dcterms:W3CDTF">2002-12-04T22:19:17Z</dcterms:modified>
  <cp:revision>18</cp:revision>
  <dc:subject/>
  <dc:title>Financial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